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E2D-119F-4365-B4D8-B11178F6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382-9861-4976-9B80-48E2131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C03-75BA-4AE6-B3DE-1D1EB377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12C-45E7-46C3-8C84-13658AF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53C-BD24-4B39-9AAE-76A24E89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8D1-4527-450F-9459-86917CF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2D3-9C14-4A17-85EE-0C4A91F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D39-ED9C-4C75-A336-524E32E6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1C9-1CC3-481A-8DD2-8D423AE7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F2D-58E7-4A55-A5A3-D77C3C5B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53E-0527-4BA3-B235-37978D2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D02-536B-4191-84DC-5ACF9EF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1049-200C-4197-80F8-E84BBEA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03B8-4CFD-4AEA-B738-6A6F5FD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CA5-3B0E-4E80-A808-A1AE43A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E0D4-D1F8-4A6A-BAEC-3BD85156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182-64B7-4510-82CE-16B9712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F343-B49F-42E3-8377-2049AE4B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AD6D-77BC-4D83-B074-195BEA1A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CF6E-096D-4BE8-A7F9-43C0BC51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AD54-F0EC-40AB-9DE2-0463778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006C-D251-40F5-A4AC-B4A74F4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873-7E5B-40E2-B0F8-FA8E8CA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533D-6416-452B-8415-6DEDF6A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76CA-9FEF-4734-A6BE-5540C25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C166-2B03-4BD1-AA15-FA8F2D2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462E-94CA-460F-B9F8-DE55224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DDDE-7B08-471D-90D5-63A7FC5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785B-7C77-44EE-AD70-E12B2B5A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0943-9358-4F7F-B2B9-85884FCE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DA68-EB68-463E-A215-C5B12BD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438AB-4BBE-4C72-A5E8-06D6A10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486B-A68B-4913-B564-249EC30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9C8-D142-4740-980E-05A1E9A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2060-BD1D-4908-86D7-1649BFC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51E9-2264-4D20-88B4-232477D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DE80-040B-4A20-886E-8FF0AEB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41D7-33DB-49C9-9D80-FDE3759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AB60-F8B3-4341-B731-0F7CF76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ADCD-91CE-4479-A522-FF2B962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DD81-9915-42A8-9CDB-601703AD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E3D5-39CE-4EE9-9F2B-B3D5EB25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10A8-938F-49E7-BC2C-7BF01D70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BD40-EE84-44BB-9575-B5AB8185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BF9-0038-42A9-B3A9-0D140171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11F7-CC82-4D9E-8312-3E1C500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AEA1-D132-4B0C-AF64-9F29EA0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C5A0-2EAB-4AB6-882E-34A7D717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57A0-8953-4A54-93A2-8293C83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1282-95A0-47C0-99AA-9D84D7F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3881-FF1C-4E11-B1C1-1834A26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32FE-C7B2-416C-BFB9-9E10E01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2BCB-1134-4AB7-B3E6-2E68BA2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D869-9DBB-4802-AB02-FD751C2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E75FA-A6FD-4662-A2BE-323E71E9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D6A-E4D4-44DB-836C-2F25F541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F13A7-3E87-4AC1-8F84-AC5EDE7E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A797-851B-430D-BC58-19CB8073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23D4-DC42-458C-BB46-56B9D360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9E05-E477-45DD-9696-B05DFB3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1317-930F-4CF8-B6BC-901D115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690A-F309-42EF-982B-4ECD99E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9644-8F80-4125-85E9-EDC9509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03AE-8F73-474A-B0B7-DB44898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AE4F-E296-487B-814B-F6AD2C6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E3E1-8941-4F2C-BEE2-D7B1D71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B1F-BA6D-4A62-8988-D36BFE8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E347-89CD-46F2-97EC-A922C655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6D20-2E44-4CCF-97B3-CA697A12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76BA-4811-448F-BE88-D87270A9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0C06-D9E5-41E6-ADF8-DA2F9C80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9BA4-46AB-4897-A46E-18F66DDF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BFAD-8313-47E6-B49B-C4EF32A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20D5-E610-410D-BA35-96AC95B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5898-E548-4331-9E57-FB4ED38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B443-4808-443D-9C3C-286DE3D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FE3A4-849F-412E-B27C-1A18EA3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1A8-D451-44DD-BDFB-EB6B533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BAE0-448C-4DB4-BD39-2704496B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DA0F-4D99-4644-AA37-6411F15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CF0F-DD41-413A-B86F-78B2ACE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BD64-A8EB-41D5-B8CE-FF077796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5CBE-704A-423D-86BD-A48BC1B9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EF89-0E00-4F6D-95FE-7F9869DD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24922-B30B-4875-B33E-FE57DB6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FEA25-A05B-4BC1-881D-242D71F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6EEE-FC93-4E31-B784-08EB0DE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E5BF4-8B1E-486B-AC57-5E778A4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93B-7C20-4228-B301-D57CC10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EFFC0-20C3-4D4F-A855-FBD8978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EAF74-8F70-428F-AC9C-E916592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C90B4-1135-4A26-8315-F28893C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8EE2-6F04-4B39-BC6B-8D2F498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1EF6-0F2B-4247-8806-E9B3B972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18806-D34E-4CE9-951D-D4E02FB5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C990-2C83-4002-8DAE-A981A5BD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54DF-344B-4CB8-BC0A-1CBAB834DD7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F950-6E5A-4091-87B5-E47CD3E461F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EA4-17DA-4ABF-8AE8-233594E7316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4DB-8FF2-46ED-971B-F8ACC1161D7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D17-1DF8-4566-9E66-F6A736F33B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6095-DB66-4FB0-A25C-AC3F911A49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339-332D-4FB9-B975-76A7F555325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E00-D546-42B1-8BAD-679D77983B9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3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8.75% of O’Gorman students scored a 4 or 5 while only 26.4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87.5% of O’Gorman students passed the test while 57.9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4348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3-07-15T14:30:14Z</dcterms:modified>
  <cp:revision>15</cp:revision>
  <dc:subject/>
  <dc:title>2011 AP English  Literature and Composition Results</dc:title>
</cp:coreProperties>
</file>